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12.wmf" ContentType="image/x-wmf"/>
  <Override PartName="/ppt/media/image8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8.jpeg" ContentType="image/jpeg"/>
  <Override PartName="/ppt/media/image14.wmf" ContentType="image/x-wmf"/>
  <Override PartName="/ppt/media/image5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3.wmf" ContentType="image/x-wmf"/>
  <Override PartName="/ppt/media/image6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214-3A90-4869-99CA-4938FB5F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48F-EC16-4746-A46F-7EACE8D1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F8A-566B-437C-B367-5D2BAA30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093-4A9D-4200-B4C5-24F486D6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78A-2E59-4AE0-A838-5773730B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E00-17FE-4762-8340-52CC2780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415-C825-4864-9686-52915D8B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B8C-4301-4F1A-9C93-74BA6797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282-1BBD-4955-A98F-537FD5A8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D41-11CA-4AC1-A7A6-4EEF4FE5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4C3-7C5D-41A1-9C67-7421722D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F98-26CF-425F-A752-E48EF72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D0F7-E0ED-49C8-A680-C032027DD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fängerunterricht Chemie in Klasse 8 statt in Klasse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 müssen, können, sollten wir anders und/oder  besser ma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i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68280"/>
            <a:ext cx="6408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ativ: Vorstellungen über den Gaszusta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e füllen den Raum vollständig aus, der ihnen zugänglich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wegung der Teilchen im Gaszustan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30120" y="3527280"/>
            <a:ext cx="3017880" cy="2926080"/>
            <a:chOff x="330120" y="3527280"/>
            <a:chExt cx="3017880" cy="2926080"/>
          </a:xfrm>
        </p:grpSpPr>
        <p:sp>
          <p:nvSpPr>
            <p:cNvPr id="70" name=""/>
            <p:cNvSpPr/>
            <p:nvPr/>
          </p:nvSpPr>
          <p:spPr>
            <a:xfrm>
              <a:off x="330120" y="3527280"/>
              <a:ext cx="3017880" cy="29260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725400" y="3808800"/>
              <a:ext cx="2170440" cy="2316600"/>
              <a:chOff x="725400" y="3808800"/>
              <a:chExt cx="2170440" cy="231660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725400" y="5902920"/>
                <a:ext cx="3492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72080" y="5918760"/>
                <a:ext cx="567720" cy="20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635120" y="5306400"/>
                <a:ext cx="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524600" y="5331240"/>
                <a:ext cx="10332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419120" y="5606640"/>
                <a:ext cx="1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386360" y="5604840"/>
                <a:ext cx="34920" cy="19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1392120" y="5719680"/>
                <a:ext cx="49608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1359720" y="5420520"/>
                <a:ext cx="523440" cy="3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1375200" y="4890240"/>
                <a:ext cx="45360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18720" y="4898880"/>
                <a:ext cx="50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07960" y="4898520"/>
                <a:ext cx="150840" cy="26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55920" y="5159520"/>
                <a:ext cx="30888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2698200" y="5006160"/>
                <a:ext cx="69840" cy="3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2491920" y="5032800"/>
                <a:ext cx="19404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97680" y="5249880"/>
                <a:ext cx="87840" cy="49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585520" y="4884840"/>
                <a:ext cx="31032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flipV="1">
                <a:off x="2687760" y="4335120"/>
                <a:ext cx="206640" cy="56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2231280" y="3808800"/>
                <a:ext cx="45324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766520" y="3814200"/>
                <a:ext cx="47412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308600" y="3974760"/>
                <a:ext cx="45324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898200" y="4439520"/>
                <a:ext cx="3967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99640" y="4447440"/>
                <a:ext cx="698400" cy="40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1592280" y="4531680"/>
                <a:ext cx="52560" cy="29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1436760" y="4548600"/>
                <a:ext cx="198360" cy="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35680" y="4581720"/>
                <a:ext cx="0" cy="60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39640" y="5173560"/>
                <a:ext cx="49644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1473120" y="4870800"/>
                <a:ext cx="462960" cy="38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1481400" y="4738320"/>
                <a:ext cx="37872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859040" y="4215600"/>
                <a:ext cx="302040" cy="5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1683720" y="4048200"/>
                <a:ext cx="473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80840" y="4056840"/>
                <a:ext cx="25920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38960" y="4351320"/>
                <a:ext cx="206640" cy="56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148480" y="4644000"/>
                <a:ext cx="30888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2199600" y="4218120"/>
                <a:ext cx="25200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1760400" y="4232160"/>
                <a:ext cx="43632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1417320" y="4472640"/>
                <a:ext cx="352800" cy="61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240" y="1700280"/>
            <a:ext cx="8702640" cy="1609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6040" y="2244600"/>
            <a:ext cx="360072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7000" y="3573360"/>
            <a:ext cx="21924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477040" y="3435480"/>
          <a:ext cx="3624120" cy="34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7040" y="3435480"/>
                    <a:ext cx="362412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6095880" y="1182600"/>
            <a:ext cx="2246400" cy="2246400"/>
            <a:chOff x="6095880" y="1182600"/>
            <a:chExt cx="2246400" cy="2246400"/>
          </a:xfrm>
        </p:grpSpPr>
        <p:sp>
          <p:nvSpPr>
            <p:cNvPr id="115" name=""/>
            <p:cNvSpPr/>
            <p:nvPr/>
          </p:nvSpPr>
          <p:spPr>
            <a:xfrm>
              <a:off x="6095880" y="1182600"/>
              <a:ext cx="2246400" cy="2246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6168240" y="1254960"/>
              <a:ext cx="2103840" cy="2105640"/>
              <a:chOff x="6168240" y="1254960"/>
              <a:chExt cx="2103840" cy="2105640"/>
            </a:xfrm>
          </p:grpSpPr>
          <p:sp>
            <p:nvSpPr>
              <p:cNvPr id="117" name=""/>
              <p:cNvSpPr/>
              <p:nvPr/>
            </p:nvSpPr>
            <p:spPr>
              <a:xfrm>
                <a:off x="7245720" y="2311560"/>
                <a:ext cx="102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42840" y="2313000"/>
                <a:ext cx="1011960" cy="1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32760" y="2312640"/>
                <a:ext cx="965880" cy="35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231680" y="2311560"/>
                <a:ext cx="890280" cy="51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228440" y="2316600"/>
                <a:ext cx="78624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29520" y="2317320"/>
                <a:ext cx="66096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217280" y="2313360"/>
                <a:ext cx="513000" cy="88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18000" y="2322720"/>
                <a:ext cx="351360" cy="9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18360" y="2322720"/>
                <a:ext cx="178560" cy="10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7217280" y="1254960"/>
                <a:ext cx="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7218720" y="1272960"/>
                <a:ext cx="178200" cy="10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218360" y="1329120"/>
                <a:ext cx="351000" cy="9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7216920" y="1406520"/>
                <a:ext cx="51336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7223400" y="1512360"/>
                <a:ext cx="66096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223760" y="1637640"/>
                <a:ext cx="78624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219440" y="1798560"/>
                <a:ext cx="888480" cy="51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7228440" y="1957680"/>
                <a:ext cx="96444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7229520" y="2131920"/>
                <a:ext cx="10101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17280" y="2332440"/>
                <a:ext cx="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037280" y="2331720"/>
                <a:ext cx="178560" cy="10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6864840" y="2321280"/>
                <a:ext cx="351360" cy="9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703920" y="2319840"/>
                <a:ext cx="51336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6550200" y="2316960"/>
                <a:ext cx="659880" cy="78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6423840" y="2318400"/>
                <a:ext cx="78624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6324120" y="2305440"/>
                <a:ext cx="890280" cy="51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239520" y="2306520"/>
                <a:ext cx="965880" cy="35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6194160" y="2307240"/>
                <a:ext cx="10101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168240" y="2302560"/>
                <a:ext cx="102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6184440" y="2122920"/>
                <a:ext cx="1011960" cy="1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6240600" y="1950120"/>
                <a:ext cx="965880" cy="35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6318000" y="1788840"/>
                <a:ext cx="890280" cy="51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6425280" y="1635840"/>
                <a:ext cx="78624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6549840" y="1508040"/>
                <a:ext cx="66096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6711120" y="1409400"/>
                <a:ext cx="514080" cy="89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6870600" y="1324800"/>
                <a:ext cx="351000" cy="9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7044840" y="1277640"/>
                <a:ext cx="178560" cy="10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 flipV="1">
            <a:off x="3429000" y="2581200"/>
            <a:ext cx="2438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306400">
            <a:off x="3206880" y="2503440"/>
            <a:ext cx="2660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tung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4714920"/>
            <a:ext cx="2971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12800">
            <a:off x="2987640" y="422064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ängen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6320" y="2855880"/>
            <a:ext cx="3017880" cy="2925720"/>
            <a:chOff x="76320" y="2855880"/>
            <a:chExt cx="3017880" cy="2925720"/>
          </a:xfrm>
        </p:grpSpPr>
        <p:sp>
          <p:nvSpPr>
            <p:cNvPr id="158" name=""/>
            <p:cNvSpPr/>
            <p:nvPr/>
          </p:nvSpPr>
          <p:spPr>
            <a:xfrm>
              <a:off x="76320" y="2855880"/>
              <a:ext cx="3017880" cy="292572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71600" y="3137040"/>
              <a:ext cx="2170440" cy="2316600"/>
              <a:chOff x="471600" y="3137040"/>
              <a:chExt cx="2170440" cy="23166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471600" y="5231160"/>
                <a:ext cx="3492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18280" y="5247000"/>
                <a:ext cx="567720" cy="20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381320" y="4634640"/>
                <a:ext cx="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270800" y="4659480"/>
                <a:ext cx="10332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1165320" y="4934880"/>
                <a:ext cx="1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132560" y="4933080"/>
                <a:ext cx="34920" cy="19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1138320" y="5047920"/>
                <a:ext cx="49608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1105920" y="4748760"/>
                <a:ext cx="523440" cy="3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1121400" y="4218480"/>
                <a:ext cx="45360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64920" y="4227120"/>
                <a:ext cx="50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54160" y="4226760"/>
                <a:ext cx="150840" cy="26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202120" y="4487760"/>
                <a:ext cx="30888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2444400" y="4334400"/>
                <a:ext cx="69840" cy="3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238120" y="4361040"/>
                <a:ext cx="19404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43880" y="4578120"/>
                <a:ext cx="87840" cy="49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331720" y="4213080"/>
                <a:ext cx="31032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2433960" y="3663360"/>
                <a:ext cx="206640" cy="56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1977480" y="3137040"/>
                <a:ext cx="45324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512720" y="3142440"/>
                <a:ext cx="47412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054800" y="3303000"/>
                <a:ext cx="45324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644400" y="3767760"/>
                <a:ext cx="3967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5840" y="3775680"/>
                <a:ext cx="698400" cy="40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338480" y="3859920"/>
                <a:ext cx="52560" cy="29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182960" y="3876840"/>
                <a:ext cx="198360" cy="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81880" y="3909960"/>
                <a:ext cx="0" cy="60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85840" y="4501800"/>
                <a:ext cx="49644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1219320" y="4199040"/>
                <a:ext cx="462960" cy="38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1227600" y="4066560"/>
                <a:ext cx="37872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1605240" y="3543840"/>
                <a:ext cx="302040" cy="5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1429920" y="3376440"/>
                <a:ext cx="473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27040" y="3385080"/>
                <a:ext cx="25920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85160" y="3679560"/>
                <a:ext cx="206640" cy="56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894680" y="3972240"/>
                <a:ext cx="30888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1945800" y="3546360"/>
                <a:ext cx="25200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506600" y="3560400"/>
                <a:ext cx="43632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163520" y="3800880"/>
                <a:ext cx="352800" cy="61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71280" y="131616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genommenes Mod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28800" y="21938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55640" y="1341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mauflösung: 352 x 288 Pixel; 27,1 Bilder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10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2360" y="2205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chtungsinformation trennen von der Längeninform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2682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94344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82760" y="2073240"/>
            <a:ext cx="4305240" cy="4380120"/>
            <a:chOff x="482760" y="2073240"/>
            <a:chExt cx="4305240" cy="438012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482760" y="2073240"/>
              <a:ext cx="4305240" cy="438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"/>
            <p:cNvGrpSpPr/>
            <p:nvPr/>
          </p:nvGrpSpPr>
          <p:grpSpPr>
            <a:xfrm>
              <a:off x="860040" y="2754360"/>
              <a:ext cx="3340440" cy="3333600"/>
              <a:chOff x="860040" y="2754360"/>
              <a:chExt cx="3340440" cy="3333600"/>
            </a:xfrm>
          </p:grpSpPr>
          <p:sp>
            <p:nvSpPr>
              <p:cNvPr id="208" name=""/>
              <p:cNvSpPr/>
              <p:nvPr/>
            </p:nvSpPr>
            <p:spPr>
              <a:xfrm>
                <a:off x="2543040" y="4419720"/>
                <a:ext cx="1657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2542320" y="4020480"/>
                <a:ext cx="1608480" cy="401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2530440" y="3672000"/>
                <a:ext cx="1505160" cy="752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522520" y="3239640"/>
                <a:ext cx="1181160" cy="117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2527200" y="2919240"/>
                <a:ext cx="762120" cy="1495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2527200" y="2820600"/>
                <a:ext cx="533520" cy="159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2527200" y="2754360"/>
                <a:ext cx="0" cy="1657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1993680" y="2830680"/>
                <a:ext cx="533160" cy="1581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1765440" y="2928960"/>
                <a:ext cx="761760" cy="1495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326960" y="3230280"/>
                <a:ext cx="1199880" cy="119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1012680" y="3658680"/>
                <a:ext cx="1524240" cy="762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907560" y="3878280"/>
                <a:ext cx="1629000" cy="542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860040" y="4129200"/>
                <a:ext cx="1676520" cy="295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66520" y="4421160"/>
                <a:ext cx="16570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898200" y="4421160"/>
                <a:ext cx="1638360" cy="523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1022040" y="4421160"/>
                <a:ext cx="1514520" cy="733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336680" y="4421160"/>
                <a:ext cx="1200240" cy="1181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498320" y="4421160"/>
                <a:ext cx="1028520" cy="133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1765080" y="4421160"/>
                <a:ext cx="771480" cy="1486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36920" y="4421160"/>
                <a:ext cx="0" cy="1666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36920" y="4414680"/>
                <a:ext cx="533160" cy="159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36920" y="4421160"/>
                <a:ext cx="742680" cy="1486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36920" y="4421160"/>
                <a:ext cx="1199880" cy="119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36920" y="4411800"/>
                <a:ext cx="1390680" cy="933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46280" y="4421160"/>
                <a:ext cx="1486080" cy="743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36920" y="4421160"/>
                <a:ext cx="1590480" cy="533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36920" y="4421160"/>
                <a:ext cx="1628640" cy="409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Richtung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708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che Pfeile doppe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Richtung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59673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Längen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596736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64000" y="1700280"/>
            <a:ext cx="331164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de-DE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mittl. Verschi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Reibungskoeffiz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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Kugelra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95280" y="3035160"/>
                <a:ext cx="3019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95280" y="4275000"/>
                <a:ext cx="314172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s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Geschwindigkeit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95280" y="1771560"/>
            <a:ext cx="4829040" cy="116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5364000" y="3032280"/>
            <a:ext cx="244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Beweglich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Zeitsp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9560" y="5388120"/>
            <a:ext cx="29530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35640" y="3933720"/>
            <a:ext cx="3668760" cy="417600"/>
            <a:chOff x="5435640" y="3933720"/>
            <a:chExt cx="3668760" cy="41760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5435640" y="3938760"/>
                  <a:ext cx="3157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5611680" y="3933720"/>
              <a:ext cx="349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: „mittl. Geschwindigkeit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5280" y="5535720"/>
            <a:ext cx="54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hr Bilder pro Sekunde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größere „Durchschnittsgeschwindig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9280" y="2170080"/>
            <a:ext cx="5967360" cy="4283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Geschwindigkeit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9640" y="479736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cience on stag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olker Martini, B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Geschwindigkeit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2803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um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8360" y="1886040"/>
            <a:ext cx="2746440" cy="3703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708360" y="1916280"/>
            <a:ext cx="5111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ldi-Mikroskop: Firma Trav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urchlicht, Auflicht, 49 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bjektive: 4x, 10x, 40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kulare: 10x, 16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gitales Okular incl.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2520" y="1860480"/>
            <a:ext cx="2808360" cy="3745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3828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um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1320" y="2610000"/>
            <a:ext cx="4581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720" y="-3600"/>
            <a:ext cx="91868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50920" y="1844640"/>
          <a:ext cx="163836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163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ur Auswert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681280" y="1773360"/>
          <a:ext cx="621180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1280" y="1773360"/>
                    <a:ext cx="62118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108000" y="2637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re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1268280"/>
            <a:ext cx="5184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genschaften des Gaszusta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mogene Raumausfü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mogene Verteilung der Bewegungsr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270400" y="1236600"/>
            <a:ext cx="3807000" cy="55436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435640" y="1268280"/>
            <a:ext cx="34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Höchste Symmetri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Hohe Reproduzi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2852640"/>
            <a:ext cx="4753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omogene Mischbarkeit aller Gase unterein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ptisch isot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heitliche Gasgesetze (real, id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6120" y="55641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se - unordentl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01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se - regel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5200" y="5110200"/>
            <a:ext cx="3859200" cy="223920"/>
          </a:xfrm>
          <a:custGeom>
            <a:avLst/>
            <a:gdLst/>
            <a:ahLst/>
            <a:rect l="l" t="t" r="r" b="b"/>
            <a:pathLst>
              <a:path w="2431" h="141">
                <a:moveTo>
                  <a:pt x="0" y="42"/>
                </a:moveTo>
                <a:cubicBezTo>
                  <a:pt x="1207" y="88"/>
                  <a:pt x="1315" y="141"/>
                  <a:pt x="2067" y="76"/>
                </a:cubicBezTo>
                <a:cubicBezTo>
                  <a:pt x="2110" y="65"/>
                  <a:pt x="2153" y="50"/>
                  <a:pt x="2194" y="33"/>
                </a:cubicBezTo>
                <a:cubicBezTo>
                  <a:pt x="2217" y="23"/>
                  <a:pt x="2237" y="0"/>
                  <a:pt x="2262" y="0"/>
                </a:cubicBezTo>
                <a:cubicBezTo>
                  <a:pt x="2318" y="0"/>
                  <a:pt x="2375" y="0"/>
                  <a:pt x="2431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6600" y="5734080"/>
            <a:ext cx="3979800" cy="239760"/>
          </a:xfrm>
          <a:custGeom>
            <a:avLst/>
            <a:gdLst/>
            <a:ahLst/>
            <a:rect l="l" t="t" r="r" b="b"/>
            <a:pathLst>
              <a:path w="2507" h="151">
                <a:moveTo>
                  <a:pt x="0" y="17"/>
                </a:moveTo>
                <a:cubicBezTo>
                  <a:pt x="351" y="151"/>
                  <a:pt x="751" y="36"/>
                  <a:pt x="1126" y="33"/>
                </a:cubicBezTo>
                <a:cubicBezTo>
                  <a:pt x="1373" y="0"/>
                  <a:pt x="1463" y="20"/>
                  <a:pt x="1812" y="25"/>
                </a:cubicBezTo>
                <a:cubicBezTo>
                  <a:pt x="1951" y="32"/>
                  <a:pt x="2093" y="19"/>
                  <a:pt x="2228" y="50"/>
                </a:cubicBezTo>
                <a:cubicBezTo>
                  <a:pt x="2238" y="52"/>
                  <a:pt x="2243" y="64"/>
                  <a:pt x="2253" y="67"/>
                </a:cubicBezTo>
                <a:cubicBezTo>
                  <a:pt x="2311" y="87"/>
                  <a:pt x="2378" y="104"/>
                  <a:pt x="2439" y="118"/>
                </a:cubicBezTo>
                <a:cubicBezTo>
                  <a:pt x="2483" y="140"/>
                  <a:pt x="2460" y="135"/>
                  <a:pt x="2507" y="13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3240" y="1405080"/>
            <a:ext cx="7308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änomene zeigen, Avogadro plausibel mach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üssigkeiten dehnen sich unterschiedlich stark aus. (Schülerexperi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e dehnen sich gleich stark au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ehrerexperi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372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26828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ase sind sehr stark kompressibel: Volumenänderung bei Druck- oder Temperaturänderung. Hier: Luft, bzw. Helium im Kolbenpr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266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99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71600" y="2179800"/>
            <a:ext cx="4676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0200" y="1376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der mit einer speziellen Kolbenproberhei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19400" y="2424240"/>
            <a:ext cx="470376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623088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mente Chemie 1, Klett Verla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37628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 Nomogramm ist undurchsichtig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14680" y="2168640"/>
            <a:ext cx="5715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55736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essere Alterna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71600" y="2349360"/>
            <a:ext cx="4600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380960" y="1855800"/>
          <a:ext cx="63820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1855800"/>
                    <a:ext cx="63820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692360" y="141300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essere Alterna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9:54:39Z</dcterms:created>
  <dc:creator>jungermann</dc:creator>
  <dc:description/>
  <dc:language>en-US</dc:language>
  <cp:lastModifiedBy>jungermann</cp:lastModifiedBy>
  <dcterms:modified xsi:type="dcterms:W3CDTF">2009-02-20T20:35:51Z</dcterms:modified>
  <cp:revision>10</cp:revision>
  <dc:subject/>
  <dc:title>Folie 1</dc:title>
</cp:coreProperties>
</file>